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EEFD6-DAC5-49F1-BC3A-F857FED588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76D50-9779-4685-A0F1-98864BDE260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CC987-D169-420C-948E-26E50ED271C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24183-65FE-41F4-A5D6-ED981468577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897A8-5DAB-417B-8432-9403FB23E68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4E1A0-9681-4E73-A271-0940934595B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30437-8475-4E22-9F3C-A2BDB4364FA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F3F48-C847-459E-AA61-D0A27D6BE1A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6A415-7019-4AC1-BD78-129AE6B82D2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35021-F020-45CE-854B-5E7DF0DD994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125BF-B00B-4FD6-916C-2B350E13F66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E4908-E1EC-474D-B451-CD3E0B7CF44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D9078-7389-4B7F-A612-AD646524DC4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FD290-D4B9-44CC-827A-E5CC00CCAF0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D5677-B5FF-4656-B7E3-E6B9CF1F1E4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0C97F-6B1E-41F4-BAA4-BBDA1F0BED3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804C1-1BAF-4199-891D-0F86794AB87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6C6AF-AE0A-4054-8C9B-64B612D82DD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E5059-C644-4FBE-A7CE-09B246F4EC0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24D0E-D59B-4C3B-8BF2-75D0228A0AC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5DB96-F7F5-4539-A1D5-3F74FB31F43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652D-E5F0-4FD3-8DF0-2474636A2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7FB3-2112-441E-B9B8-F1C760DC4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EA49-F644-4111-8F98-25FB7A16D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5074-8837-4584-B98A-97A61C4CA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B3F19-A65C-45A7-85A1-23909FB37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A4CDE-0DCF-43A7-B212-D750E1984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C35EC-83BD-4636-AB7F-BEBD52CF8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5F6C6-CDE6-4C5F-B553-8D6030AE5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10003-A68F-40EE-8BDC-0D019C13E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39549-D2AE-44D1-AA64-A4F91C5B4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EBDB0-C156-44C3-AF9C-72EBC738C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51C3-42AC-4A1E-B573-B7ADABCA5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A9649-5BC8-4C1A-9F81-90B8A5167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9BC70-2A22-4C18-A84F-0E2FAD8E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E8C00-A1D0-4A37-843B-132FC3145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567FF-6359-4202-A16B-6315AA7A9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4881E-E36F-4B79-950E-10570589C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6653-CF30-4CB7-872F-D6148EDF6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CCA6-1375-4830-B7B1-D8CC0B177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FB2C-68A4-4F6B-9524-59197AFF4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A2EF-C2EF-4255-B7B4-EEBF54DD6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F941-947B-40B0-953D-4CA7E6326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8070-2C55-45D3-925B-681B063D9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555E-E271-44A7-BB67-F3B841CC7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1359C-B464-4292-8AAA-2FDE377A568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10195-DE44-4E16-B7EE-F2C8E730B6E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player.discoveryeducation.com/index.cfm?guidAssetId=F07B4765-E9A9-4C9E-BA54-049B0CB0BEB2&amp;blnFromSearch=1&amp;productcode=US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ivil War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pter 13, Section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General Ulysses S. Grant (N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457200" y="2362320"/>
            <a:ext cx="3657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0" y="1523880"/>
            <a:ext cx="5943600" cy="55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rose to prominence in ____ battle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tarted out West at age 39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_____________Grad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Genius at viewing whole scene and then reacting to it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ilent, grim, cool courage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Had early victories in ________- Fort Henry, Fort Donelson, Nashville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would become _________after War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7" descr="GrantUS"/>
          <p:cNvPicPr/>
          <p:nvPr/>
        </p:nvPicPr>
        <p:blipFill>
          <a:blip r:embed="rId1"/>
          <a:stretch/>
        </p:blipFill>
        <p:spPr>
          <a:xfrm>
            <a:off x="5791320" y="1371600"/>
            <a:ext cx="335268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hiloh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1143000" y="1905120"/>
            <a:ext cx="7696080" cy="34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Grant took an army of 40,000 to ____________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Lost in __________on first day (though Confeds. Lost their general Albert Johnson)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he next day Grant __________and sent the Confeds. Off the battle field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Major losses on ______________with 13,000 wounded/dead from the North, 11,000 South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Farragut Captures New Orlean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457200" y="2362320"/>
            <a:ext cx="3657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304920" y="1011240"/>
            <a:ext cx="7924680" cy="44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___________________, son of a Naval officer, had been commissioned a midshipman at the age of 9, fought in 1812 @ age ____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Disregarding orders to take forts at the mouth of Mississippi, he raced by them only losing 3 of 17 ships) and _________________________, the coveted queen city of the South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Now the South could no longer ______________ ______________ with supplies brought in from the Gulf of Mexico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he Monitor and the Merrimac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1676520" y="1447920"/>
            <a:ext cx="7162560" cy="546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________ (Southern Ironclad Ship) destroyed numerous Northern wooden ships on March 8, 1862.  Looked like the Merrimac would single handedly _____________for the South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Next day, March 9, the North rolled the ___________in.  It was flush with water with a revolving turret  - “__________________”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n epic battle took place, eventually the ____________withdrew again to Northfolk and the Union blockade proved to strong to be broken.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he age of _________________had begun.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he Peninsular Campaig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457200" y="2362320"/>
            <a:ext cx="3657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228600" y="1447920"/>
            <a:ext cx="5334120" cy="57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McClellan tried to take Richmond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Johnson (S) was injured and so _____________(S) took charge of the South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Lee pushed McClellan back and on the defense.  The North was generally successful but couldn’t _____________, Lee proved worth his weight (and then some)!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7" descr="csl1403l"/>
          <p:cNvPicPr/>
          <p:nvPr/>
        </p:nvPicPr>
        <p:blipFill>
          <a:blip r:embed="rId1"/>
          <a:stretch/>
        </p:blipFill>
        <p:spPr>
          <a:xfrm>
            <a:off x="5562720" y="1752480"/>
            <a:ext cx="358128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obert E. Lee (S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457200" y="2362320"/>
            <a:ext cx="3657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657600" y="1219320"/>
            <a:ext cx="5334120" cy="57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_______________ Geniu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 man of noble character his first loyalty was for ________(was actually asked by _________to lead the Union) but couldn’t bring himself to go against Virginia.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________________– married Martha Washington’s great grand daughter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_________________2</a:t>
            </a:r>
            <a:r>
              <a:rPr b="0" lang="en-US" sz="2600" spc="-1" strike="noStrike" baseline="30000">
                <a:solidFill>
                  <a:srgbClr val="ffffff"/>
                </a:solidFill>
                <a:latin typeface="Tahoma"/>
              </a:rPr>
              <a:t>nd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in class, later superintendent there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7" descr="bio%20pic%20of%20robert%20e%20lee"/>
          <p:cNvPicPr/>
          <p:nvPr/>
        </p:nvPicPr>
        <p:blipFill>
          <a:blip r:embed="rId1"/>
          <a:stretch/>
        </p:blipFill>
        <p:spPr>
          <a:xfrm>
            <a:off x="0" y="1523880"/>
            <a:ext cx="333684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_____________________(Manassas)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457200" y="2362320"/>
            <a:ext cx="3657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4114800" y="1011240"/>
            <a:ext cx="5029200" cy="62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John Pope (N) was now in charge after McClellan was removed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Before Pope could march on Richmond and end the war he was ___________________ ____________________.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hey __________and he was replaced with McClellan (again)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he North was suddenly on the ________.  Enlistments were ______.  People weren’t buying ____________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7" descr="800px-Second_Battle_of_Bull_Run"/>
          <p:cNvPicPr/>
          <p:nvPr/>
        </p:nvPicPr>
        <p:blipFill>
          <a:blip r:embed="rId1"/>
          <a:stretch/>
        </p:blipFill>
        <p:spPr>
          <a:xfrm>
            <a:off x="0" y="1447920"/>
            <a:ext cx="3938760" cy="48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Antietam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457200" y="2362320"/>
            <a:ext cx="3657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228600" y="1219320"/>
            <a:ext cx="5257800" cy="69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fter Bull Run, Lee quickly brought his army of 55,000 battle hardened men across the Potomac in ______on Sept. 4, 1862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inging “___________________” they thought MD-ers would join them.  But they didn’t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hen a copy of _____________ ____________________ fell into McClellan’s hands.  McClellan moved typically slow and lost a chance to really ____________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9" descr="antietam_072"/>
          <p:cNvPicPr/>
          <p:nvPr/>
        </p:nvPicPr>
        <p:blipFill>
          <a:blip r:embed="rId1"/>
          <a:stretch/>
        </p:blipFill>
        <p:spPr>
          <a:xfrm>
            <a:off x="5533920" y="1371600"/>
            <a:ext cx="3610080" cy="48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Antietam continued…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457200" y="2362320"/>
            <a:ext cx="3657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3276720" y="1066680"/>
            <a:ext cx="5715000" cy="67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Finally the two armies met.  September 17, 1862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t was the _________________ _______________________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Lee was ______________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Lee faced heavy casualties all day and night but still attacked the next morning.  Again McClellan hesitated.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Officially it was a _______, but Lee’s __________ of the North had reached it’s highpoint.  This was the __________of the Confederacy.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7" descr="antietam_church_dead500-762342"/>
          <p:cNvPicPr/>
          <p:nvPr/>
        </p:nvPicPr>
        <p:blipFill>
          <a:blip r:embed="rId1"/>
          <a:stretch/>
        </p:blipFill>
        <p:spPr>
          <a:xfrm>
            <a:off x="228600" y="1523880"/>
            <a:ext cx="28195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Antietam continued…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457200" y="2362320"/>
            <a:ext cx="3657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228600" y="1447920"/>
            <a:ext cx="8915400" cy="20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outh left 2700 dead on the battlefield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he Union lost 2100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ach army had more than 9000 wounded.  ____________ __________________________________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Picture 7" descr="Antietam%20Wounded,%201862-500"/>
          <p:cNvPicPr/>
          <p:nvPr/>
        </p:nvPicPr>
        <p:blipFill>
          <a:blip r:embed="rId1"/>
          <a:stretch/>
        </p:blipFill>
        <p:spPr>
          <a:xfrm>
            <a:off x="1295280" y="3962520"/>
            <a:ext cx="59436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ere was the fighting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main three areas of fighting were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) between __________ and __________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) the valley of Ohio, Cumberland, and Tennessee ____________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) in the __________________ valle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3"/>
          <p:cNvSpPr/>
          <p:nvPr/>
        </p:nvSpPr>
        <p:spPr>
          <a:xfrm>
            <a:off x="457200" y="2362320"/>
            <a:ext cx="3657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Picture 8" descr="Antietam"/>
          <p:cNvPicPr/>
          <p:nvPr/>
        </p:nvPicPr>
        <p:blipFill>
          <a:blip r:embed="rId1"/>
          <a:stretch/>
        </p:blipFill>
        <p:spPr>
          <a:xfrm>
            <a:off x="380880" y="149400"/>
            <a:ext cx="8229600" cy="64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First Battle of Bull Run (Manassas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neral Irvin McDowell (N) (with 30,000 men) went to seize ________ hoping to end the war quickly.  But they weren’t well trained and ready to fight.  (not that the Southerners were either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neral Winfield Scott (N) (______________) _________protested and wanted a blockade.  (_________) knowing it would be a long w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First Battle of Bull Run (Manassas) continued…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t Lincoln gave McDowell the go ahead and his men moved “_______________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cDowell’s grand army met General Joseph E. Johnston’s army (22,000) on July 21, 1861 at _____________ (near the little town of _________)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esh confederate troops arrived with a “__________” and made them retrea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Outcomes of First Battle of Bull Run (Manassas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Win by the _____ actually hurt the South and allowed ______________.  The North got the message that this was going to be a ______ w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neral Thomas “_________” Jackson (S) wanted to charge ____.  But didn’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mand in the East was turned over to red-haired General ________________ (N) (not even 35 years old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attle of Bull Run (1 and 2) Vide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http://player.discoveryeducation.com/index.cfm?guidAssetId=F07B4765-E9A9-4C9E-BA54-049B0CB0BEB2&amp;blnFromSearch=1&amp;productcode=U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George McClella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8" name="Picture 5" descr="mclell"/>
          <p:cNvPicPr/>
          <p:nvPr/>
        </p:nvPicPr>
        <p:blipFill>
          <a:blip r:embed="rId1"/>
          <a:stretch/>
        </p:blipFill>
        <p:spPr>
          <a:xfrm>
            <a:off x="533520" y="1676520"/>
            <a:ext cx="3076560" cy="47908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6"/>
          <p:cNvSpPr/>
          <p:nvPr/>
        </p:nvSpPr>
        <p:spPr>
          <a:xfrm>
            <a:off x="4038480" y="1905120"/>
            <a:ext cx="480060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____________ Grad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Fought in __________ War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ssisted on precision in drill and demanded ample supplies for his troops, who _________ _______________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He stayed there training and preparing them.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ventually though his indecision would be hazardou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George McClellan continued…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457200" y="2362320"/>
            <a:ext cx="3657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304920" y="1011240"/>
            <a:ext cx="5638680" cy="58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fter Battle of Bull Run, he commanded the _____________ ________________.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He oversaw the growth of 22,000 military to approx. ______ under his charge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He was generally successful in the Peninsular campaign but failed to take ____________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he Union would also __________ ___________________under him and later suffer heavy casualties at Antietam.  Eventually relieved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8" descr="ExplorePAHistory-a0h4a4-a_349"/>
          <p:cNvPicPr/>
          <p:nvPr/>
        </p:nvPicPr>
        <p:blipFill>
          <a:blip r:embed="rId1"/>
          <a:stretch/>
        </p:blipFill>
        <p:spPr>
          <a:xfrm>
            <a:off x="6019920" y="1523880"/>
            <a:ext cx="3124080" cy="47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he Trent Affair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3429000" y="1447920"/>
            <a:ext cx="5562720" cy="65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n November 1861 a Union warship stopped the British steamer, ______, bound for London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_____________________were removed from the vessel.  They were headed to___________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he _______ were outraged at this violation of the freedom of the seas for neutral vessel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______ realized the danger of their outrage and ________ setting them free and admitting their mistake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6" descr="istockphoto_3975059_the_trent_affair"/>
          <p:cNvPicPr/>
          <p:nvPr/>
        </p:nvPicPr>
        <p:blipFill>
          <a:blip r:embed="rId1"/>
          <a:stretch/>
        </p:blipFill>
        <p:spPr>
          <a:xfrm>
            <a:off x="0" y="2057400"/>
            <a:ext cx="289548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5T12:15:14Z</dcterms:created>
  <dc:creator>Jake Hollin</dc:creator>
  <dc:description/>
  <dc:language>en-US</dc:language>
  <cp:lastModifiedBy>jhollin</cp:lastModifiedBy>
  <dcterms:modified xsi:type="dcterms:W3CDTF">2009-09-08T14:51:57Z</dcterms:modified>
  <cp:revision>14</cp:revision>
  <dc:subject/>
  <dc:title>Economics</dc:title>
</cp:coreProperties>
</file>