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405BA-85AB-4EEF-9F5E-8CB101217A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0D075-1C6C-4B06-97AD-71AF7818D2E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79AF1-8532-49B7-A588-7B4AE0D1B91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B484F-471F-4DA9-8B22-7AD5BB38C77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8E17B-A211-4019-83C1-5BB11C106DD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169F3-9D60-481B-A2C4-9A4703888B6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92458-8A3C-4835-AF14-A1024F32D32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09E61-EF96-4827-BFBE-BFF22576BE0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FF10D-FF75-4E70-BC73-CEBC81D57FB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3028D-995F-4379-81F2-8D1520CF6AC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C19B0-AF74-4D5D-BB18-984B8505CCE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E9007-7D64-421A-8E3D-60CD8A81B9E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DB9F0-BB2A-40BF-A978-E92A6241461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67336-BE05-4AE5-8B40-E6D532F989B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F00F4-D10D-4007-9434-202A05ECC1A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FCF54-71AC-4682-A244-39E30B24F73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5143D-C5D8-4716-9FB7-57081061800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8FB7B-D5E3-4DC6-B90F-9136875C6BB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7E63A-2471-4872-A7F5-1F2EC3C08E3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0108E-E274-44C6-A2BD-063256EE507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FE99B-74B4-4203-8F87-E22271FE45A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1CCC-1D15-4546-AA57-252932983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B22E-08F9-4A7F-90F3-FB0471D81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4987-F618-4EE5-A727-48E326E2A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A06E-9B8B-41F4-AC60-CCFA64507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AA2F5-9973-471C-AF25-F4235ECC5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CD85C-0B81-4294-BCCD-CB90FBB81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1CF3B-904E-4D93-B84A-06319E4FA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173B2-BE77-41EE-A9F5-E22712F6F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5E51E-E111-457C-A50D-9B14A43EF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BF6BD-D166-4504-B845-90B730496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11032-6DEB-4029-B0AD-010D931C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48A3-ED36-4740-9C78-E1B8B0C26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3F8D4-01E2-46ED-8EB8-10F44D0C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88072-6638-4E17-A111-FFCCF020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E69DD-6A86-4C6C-BC9E-6253F056D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644C1-99E7-4BDC-A38B-3F854484F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CDDA7-9D63-4881-AF94-A63D1123D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B6F5-36D1-477A-A384-2297B732F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6761-F842-4FE9-A0AC-96E1F1CB8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F4B6-DED3-4B70-B458-11324710B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0397-7DA2-4826-A486-A7666FCE2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4B66-600B-4335-B647-ACB0A3B5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BB69-DB32-4797-B97C-DB81A4F4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0CD4-D3E8-4EA1-9118-8AB4BCA8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AA5F5-6C4E-4EEC-8D21-6F59BC385D7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0269D-2A8D-437A-8735-ACBF2F10A4C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player.discoveryeducation.com/index.cfm?guidAssetId=F07B4765-E9A9-4C9E-BA54-049B0CB0BEB2&amp;blnFromSearch=1&amp;productcode=US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ivil War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pter 13, Section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General Ulysses S. Grant (N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457200" y="2362320"/>
            <a:ext cx="365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0" y="1523880"/>
            <a:ext cx="5943600" cy="55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rose to prominence in ____ battle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tarted out West at age 39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_____________Grad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Genius at viewing whole scene and then reacting to it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ilent, grim, cool courag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ad early victories in ________- Fort Henry, Fort Donelson, Nashvill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ould become _________after War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7" descr="GrantUS"/>
          <p:cNvPicPr/>
          <p:nvPr/>
        </p:nvPicPr>
        <p:blipFill>
          <a:blip r:embed="rId1"/>
          <a:stretch/>
        </p:blipFill>
        <p:spPr>
          <a:xfrm>
            <a:off x="5791320" y="1371600"/>
            <a:ext cx="335268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hiloh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1143000" y="1905120"/>
            <a:ext cx="7696080" cy="34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Grant took an army of 40,000 to ____________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Lost in __________on first day (though Confeds. Lost their general Albert Johnson)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e next day Grant __________and sent the Confeds. Off the battle field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ajor losses on ______________with 13,000 wounded/dead from the North, 11,000 South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arragut Captures New Orlean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57200" y="2362320"/>
            <a:ext cx="365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04920" y="1011240"/>
            <a:ext cx="7924680" cy="44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___________________, son of a Naval officer, had been commissioned a midshipman at the age of 9, fought in 1812 @ age ____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isregarding orders to take forts at the mouth of Mississippi, he raced by them only losing 3 of 17 ships) and _________________________, the coveted queen city of the South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Now the South could no longer ______________ ______________ with supplies brought in from the Gulf of Mexic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Monitor and the Merrimac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1676520" y="1447920"/>
            <a:ext cx="7162560" cy="546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________ (Southern Ironclad Ship) destroyed numerous Northern wooden ships on March 8, 1862.  Looked like the Merrimac would single handedly _____________for the South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Next day, March 9, the North rolled the ___________in.  It was flush with water with a revolving turret  - “__________________”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n epic battle took place, eventually the ____________withdrew again to Northfolk and the Union blockade proved to strong to be broken.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e age of _________________had begun.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Peninsular Campaig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457200" y="2362320"/>
            <a:ext cx="365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28600" y="1447920"/>
            <a:ext cx="5334120" cy="57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cClellan tried to take Richmond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Johnson (S) was injured and so _____________(S) took charge of the South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Lee pushed McClellan back and on the defense.  The North was generally successful but couldn’t _____________, Lee proved worth his weight (and then some)!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7" descr="csl1403l"/>
          <p:cNvPicPr/>
          <p:nvPr/>
        </p:nvPicPr>
        <p:blipFill>
          <a:blip r:embed="rId1"/>
          <a:stretch/>
        </p:blipFill>
        <p:spPr>
          <a:xfrm>
            <a:off x="5562720" y="1752480"/>
            <a:ext cx="358128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obert E. Lee (S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457200" y="2362320"/>
            <a:ext cx="365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657600" y="1219320"/>
            <a:ext cx="5334120" cy="57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_______________ Geniu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 man of noble character his first loyalty was for ________(was actually asked by _________to lead the Union) but couldn’t bring himself to go against Virginia.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________________– married Martha Washington’s great grand daughter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_________________2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ahoma"/>
              </a:rPr>
              <a:t>nd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in class, later superintendent ther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7" descr="bio%20pic%20of%20robert%20e%20lee"/>
          <p:cNvPicPr/>
          <p:nvPr/>
        </p:nvPicPr>
        <p:blipFill>
          <a:blip r:embed="rId1"/>
          <a:stretch/>
        </p:blipFill>
        <p:spPr>
          <a:xfrm>
            <a:off x="0" y="1523880"/>
            <a:ext cx="333684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_____________________(Manassas)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457200" y="2362320"/>
            <a:ext cx="365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4114800" y="1011240"/>
            <a:ext cx="5029200" cy="62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John Pope (N) was now in charge after McClellan was removed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Before Pope could march on Richmond and end the war he was ___________________ ____________________.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ey __________and he was replaced with McClellan (again)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e North was suddenly on the ________.  Enlistments were ______.  People weren’t buying ____________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7" descr="800px-Second_Battle_of_Bull_Run"/>
          <p:cNvPicPr/>
          <p:nvPr/>
        </p:nvPicPr>
        <p:blipFill>
          <a:blip r:embed="rId1"/>
          <a:stretch/>
        </p:blipFill>
        <p:spPr>
          <a:xfrm>
            <a:off x="0" y="1447920"/>
            <a:ext cx="393876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ntietam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457200" y="2362320"/>
            <a:ext cx="365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28600" y="1219320"/>
            <a:ext cx="5257800" cy="69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fter Bull Run, Lee quickly brought his army of 55,000 battle hardened men across the Potomac in ______on Sept. 4, 1862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inging “___________________” they thought MD-ers would join them.  But they didn’t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en a copy of _____________ ____________________ fell into McClellan’s hands.  McClellan moved typically slow and lost a chance to really ____________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9" descr="antietam_072"/>
          <p:cNvPicPr/>
          <p:nvPr/>
        </p:nvPicPr>
        <p:blipFill>
          <a:blip r:embed="rId1"/>
          <a:stretch/>
        </p:blipFill>
        <p:spPr>
          <a:xfrm>
            <a:off x="5533920" y="1371600"/>
            <a:ext cx="361008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ntietam continued…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457200" y="2362320"/>
            <a:ext cx="365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3276720" y="1066680"/>
            <a:ext cx="5715000" cy="67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Finally the two armies met.  September 17, 1862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t was the _________________ _______________________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Lee was ______________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Lee faced heavy casualties all day and night but still attacked the next morning.  Again McClellan hesitated.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Officially it was a _______, but Lee’s __________ of the North had reached it’s highpoint.  This was the __________of the Confederacy.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7" descr="antietam_church_dead500-762342"/>
          <p:cNvPicPr/>
          <p:nvPr/>
        </p:nvPicPr>
        <p:blipFill>
          <a:blip r:embed="rId1"/>
          <a:stretch/>
        </p:blipFill>
        <p:spPr>
          <a:xfrm>
            <a:off x="228600" y="1523880"/>
            <a:ext cx="28195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ntietam continued…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457200" y="2362320"/>
            <a:ext cx="365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228600" y="1447920"/>
            <a:ext cx="8915400" cy="20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outh left 2700 dead on the battlefield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e Union lost 2100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ach army had more than 9000 wounded.  ____________ __________________________________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7" descr="Antietam%20Wounded,%201862-500"/>
          <p:cNvPicPr/>
          <p:nvPr/>
        </p:nvPicPr>
        <p:blipFill>
          <a:blip r:embed="rId1"/>
          <a:stretch/>
        </p:blipFill>
        <p:spPr>
          <a:xfrm>
            <a:off x="1295280" y="3962520"/>
            <a:ext cx="59436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ere was the fight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ain three areas of fighting were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) between __________ and __________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) the valley of Ohio, Cumberland, and Tennessee ____________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) in the __________________ valle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457200" y="2362320"/>
            <a:ext cx="365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8" descr="Antietam"/>
          <p:cNvPicPr/>
          <p:nvPr/>
        </p:nvPicPr>
        <p:blipFill>
          <a:blip r:embed="rId1"/>
          <a:stretch/>
        </p:blipFill>
        <p:spPr>
          <a:xfrm>
            <a:off x="380880" y="149400"/>
            <a:ext cx="8229600" cy="64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irst Battle of Bull Run (Manassas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eral Irvin McDowell (N) (with 30,000 men) went to seize ________ hoping to end the war quickly.  But they weren’t well trained and ready to fight.  (not that the Southerners were either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eral Winfield Scott (N) (______________) _________protested and wanted a blockade.  (_________) knowing it would be a long w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irst Battle of Bull Run (Manassas) continued…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t Lincoln gave McDowell the go ahead and his men moved “_______________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cDowell’s grand army met General Joseph E. Johnston’s army (22,000) on July 21, 1861 at _____________ (near the little town of _________)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esh confederate troops arrived with a “__________” and made them retrea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Outcomes of First Battle of Bull Run (Manassas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Win by the _____ actually hurt the South and allowed ______________.  The North got the message that this was going to be a ______ w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eral Thomas “_________” Jackson (S) wanted to charge ____.  But didn’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mand in the East was turned over to red-haired General ________________ (N) (not even 35 years old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attle of Bull Run (1 and 2) Vide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player.discoveryeducation.com/index.cfm?guidAssetId=F07B4765-E9A9-4C9E-BA54-049B0CB0BEB2&amp;blnFromSearch=1&amp;productcode=U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George McClella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8" name="Picture 5" descr="mclell"/>
          <p:cNvPicPr/>
          <p:nvPr/>
        </p:nvPicPr>
        <p:blipFill>
          <a:blip r:embed="rId1"/>
          <a:stretch/>
        </p:blipFill>
        <p:spPr>
          <a:xfrm>
            <a:off x="533520" y="1676520"/>
            <a:ext cx="3076560" cy="47908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6"/>
          <p:cNvSpPr/>
          <p:nvPr/>
        </p:nvSpPr>
        <p:spPr>
          <a:xfrm>
            <a:off x="4038480" y="1905120"/>
            <a:ext cx="480060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____________ Grad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Fought in __________ War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ssisted on precision in drill and demanded ample supplies for his troops, who _________ _______________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e stayed there training and preparing them.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ventually though his indecision would be hazardou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George McClellan continued…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457200" y="2362320"/>
            <a:ext cx="365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304920" y="1011240"/>
            <a:ext cx="5638680" cy="58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fter Battle of Bull Run, he commanded the _____________ ________________.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e oversaw the growth of 22,000 military to approx. ______ under his charg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e was generally successful in the Peninsular campaign but failed to take ____________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e Union would also __________ ___________________under him and later suffer heavy casualties at Antietam.  Eventually relieved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8" descr="ExplorePAHistory-a0h4a4-a_349"/>
          <p:cNvPicPr/>
          <p:nvPr/>
        </p:nvPicPr>
        <p:blipFill>
          <a:blip r:embed="rId1"/>
          <a:stretch/>
        </p:blipFill>
        <p:spPr>
          <a:xfrm>
            <a:off x="6019920" y="1523880"/>
            <a:ext cx="3124080" cy="47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Trent Affair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3429000" y="1447920"/>
            <a:ext cx="5562720" cy="65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n November 1861 a Union warship stopped the British steamer, ______, bound for London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_____________________were removed from the vessel.  They were headed to___________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e _______ were outraged at this violation of the freedom of the seas for neutral vessel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______ realized the danger of their outrage and ________ setting them free and admitting their mistak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6" descr="istockphoto_3975059_the_trent_affair"/>
          <p:cNvPicPr/>
          <p:nvPr/>
        </p:nvPicPr>
        <p:blipFill>
          <a:blip r:embed="rId1"/>
          <a:stretch/>
        </p:blipFill>
        <p:spPr>
          <a:xfrm>
            <a:off x="0" y="2057400"/>
            <a:ext cx="28954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12:15:14Z</dcterms:created>
  <dc:creator>Jake Hollin</dc:creator>
  <dc:description/>
  <dc:language>en-US</dc:language>
  <cp:lastModifiedBy>jhollin</cp:lastModifiedBy>
  <dcterms:modified xsi:type="dcterms:W3CDTF">2009-09-08T14:51:57Z</dcterms:modified>
  <cp:revision>14</cp:revision>
  <dc:subject/>
  <dc:title>Economics</dc:title>
</cp:coreProperties>
</file>