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39AC-9324-4854-BDDA-7E14A544F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8C25-059B-4AAD-B623-FEB09BDD78B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0656-C5C6-49FD-872A-4AC8E6890E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C0D7-0BEF-41F1-9E89-2E6B5F94A48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7880-EB29-49FA-88E2-64306C588B3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E1D9-25D0-4DE1-9062-C28F0043A3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41061-8193-4053-9F38-1659022B87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F1CA-6E00-4F30-82B6-1AABBA534E2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9E5E-347B-48B1-958A-AC3E8533E8D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70382-263C-4A99-9D3C-36DDA6D242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7BDA-9F8E-4A4B-B582-E6025084E0D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4292-5C36-45E7-AA79-B242CE28DBE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95AF-D7D6-4883-ADD7-395185DF728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B7C8-992B-4394-9BAB-4609946509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5D69-6EF9-450A-BE5A-D3381E3F55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2089-FA2D-4DE8-B5C3-9CF2D4710F5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2FE53-2643-4A76-925F-A8B210A18F0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3D68-97FC-4078-80DD-4B9F4B8B5F1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79C7-E549-4703-9384-920D4D96558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E0F0B-8E44-4256-824C-D94D4BC14A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F263-390C-4911-ABE4-BA63BE6D8A2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88F-C83C-47A7-A985-86C47F2C2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B27-05E7-4CB4-B131-522518DB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6B8-8463-4C3B-9BE3-F0D1EF20C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5FCD-A333-4C46-B96B-59FE45D9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82E4-E7CB-4D7A-B493-BD13A8132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40C67-5C3D-408F-B52D-23A5CB36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60DC-4A24-4257-86C7-635E3A50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C262-75EB-4FAE-86AA-6413F78F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5A1D-E500-412C-9897-0B4A5A1B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5CEB-D21A-463B-9546-264E321C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0980-0D92-47B1-B6B0-4080B206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293-221E-4F66-B244-E6DAB7CD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C0FA-45AC-4F6C-A8FB-675178C9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D7E7-CFF7-495F-AE7D-1E21B4B8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7F97D-671A-483A-8B3D-59477735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42EE-D485-478A-A191-9C11CE7A4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161-2DBE-4D12-902C-8E34638D7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4AD-8994-43ED-9EB9-86ABBFAF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623-F4EA-4B99-9F86-9BBCA399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F63-1C0A-46C8-A5D4-936EBC67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F23B-8ED1-46B4-B052-3693208B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9FFF-0D67-4118-8FDE-C4C9527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7A7F-0639-4A20-87FF-5F9B9C18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97EB-D568-451A-9820-6A6C37B5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962-9397-4BD8-B80B-DDA06363504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0424-2BB1-4A1A-916C-6955E8095C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07B4765-E9A9-4C9E-BA54-049B0CB0BEB2&amp;blnFromSearch=1&amp;productcode=U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vil Wa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3, Section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neral Ulysses S. Grant (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1523880"/>
            <a:ext cx="59436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ose to prominence in ____ batt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rted out West at age 3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ius at viewing whole scene and then reacting to 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lent, grim, cool coura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d early victories in ________- Fort Henry, Fort Donelson, Nashvil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uld become _________after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GrantUS"/>
          <p:cNvPicPr/>
          <p:nvPr/>
        </p:nvPicPr>
        <p:blipFill>
          <a:blip r:embed="rId1"/>
          <a:stretch/>
        </p:blipFill>
        <p:spPr>
          <a:xfrm>
            <a:off x="5791320" y="1371600"/>
            <a:ext cx="33526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hilo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43000" y="1905120"/>
            <a:ext cx="76960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rant took an army of 40,000 to 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st in __________on first day (though Confeds. Lost their general Albert Johnso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ext day Grant __________and sent the Confeds. Off the battle fiel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jor losses on ______________with 13,000 wounded/dead from the North, 11,000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rragut Captures New Orle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4920" y="1011240"/>
            <a:ext cx="79246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, son of a Naval officer, had been commissioned a midshipman at the age of 9, fought in 1812 @ age 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regarding orders to take forts at the mouth of Mississippi, he raced by them only losing 3 of 17 ships) and _________________________, the coveted queen city of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w the South could no longer ______________ ______________ with supplies brought in from the Gulf of Mex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onitor and the Merrim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676520" y="1447920"/>
            <a:ext cx="716256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 (Southern Ironclad Ship) destroyed numerous Northern wooden ships on March 8, 1862.  Looked like the Merrimac would single handedly _____________for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xt day, March 9, the North rolled the ___________in.  It was flush with water with a revolving turret  - “__________________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 epic battle took place, eventually the ____________withdrew again to Northfolk and the Union blockade proved to strong to be broke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age of _________________had begu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eninsular Campaig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1447920"/>
            <a:ext cx="533412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cClellan tried to take Richmon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son (S) was injured and so _____________(S) took charge of the South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pushed McClellan back and on the defense.  The North was generally successful but couldn’t _____________, Lee proved worth his weight (and then some)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csl1403l"/>
          <p:cNvPicPr/>
          <p:nvPr/>
        </p:nvPicPr>
        <p:blipFill>
          <a:blip r:embed="rId1"/>
          <a:stretch/>
        </p:blipFill>
        <p:spPr>
          <a:xfrm>
            <a:off x="5562720" y="1752480"/>
            <a:ext cx="3581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bert E. Lee (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657600" y="1219320"/>
            <a:ext cx="533412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 Geni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man of noble character his first loyalty was for ________(was actually asked by _________to lead the Union) but couldn’t bring himself to go against Virginia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– married Martha Washington’s great grand daughte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in class, later superintendent the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bio%20pic%20of%20robert%20e%20lee"/>
          <p:cNvPicPr/>
          <p:nvPr/>
        </p:nvPicPr>
        <p:blipFill>
          <a:blip r:embed="rId1"/>
          <a:stretch/>
        </p:blipFill>
        <p:spPr>
          <a:xfrm>
            <a:off x="0" y="1523880"/>
            <a:ext cx="33368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_____________________(Manassas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14800" y="1011240"/>
            <a:ext cx="50292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 Pope (N) was now in charge after McClellan was remo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fore Pope could march on Richmond and end the war he was ___________________ ____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__________and he was replaced with McClellan (agai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orth was suddenly on the ________.  Enlistments were ______.  People weren’t buying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800px-Second_Battle_of_Bull_Run"/>
          <p:cNvPicPr/>
          <p:nvPr/>
        </p:nvPicPr>
        <p:blipFill>
          <a:blip r:embed="rId1"/>
          <a:stretch/>
        </p:blipFill>
        <p:spPr>
          <a:xfrm>
            <a:off x="0" y="1447920"/>
            <a:ext cx="39387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19320"/>
            <a:ext cx="5257800" cy="69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ull Run, Lee quickly brought his army of 55,000 battle hardened men across the Potomac in ______on Sept. 4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nging “___________________” they thought MD-ers would join them.  But they didn’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n a copy of _____________ ____________________ fell into McClellan’s hands.  McClellan moved typically slow and lost a chance to really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antietam_072"/>
          <p:cNvPicPr/>
          <p:nvPr/>
        </p:nvPicPr>
        <p:blipFill>
          <a:blip r:embed="rId1"/>
          <a:stretch/>
        </p:blipFill>
        <p:spPr>
          <a:xfrm>
            <a:off x="5533920" y="1371600"/>
            <a:ext cx="3610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276720" y="1066680"/>
            <a:ext cx="5715000" cy="67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nally the two armies met.  September 17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 was the _________________ _______________________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was __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faced heavy casualties all day and night but still attacked the next morning.  Again McClellan hesitated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fficially it was a _______, but Lee’s __________ of the North had reached it’s highpoint.  This was the __________of the Confederac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antietam_church_dead500-762342"/>
          <p:cNvPicPr/>
          <p:nvPr/>
        </p:nvPicPr>
        <p:blipFill>
          <a:blip r:embed="rId1"/>
          <a:stretch/>
        </p:blipFill>
        <p:spPr>
          <a:xfrm>
            <a:off x="228600" y="1523880"/>
            <a:ext cx="281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8600" y="1447920"/>
            <a:ext cx="89154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th left 2700 dead on the battlefiel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lost 210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ch army had more than 9000 wounded.  ____________ ___________________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Antietam%20Wounded,%201862-500"/>
          <p:cNvPicPr/>
          <p:nvPr/>
        </p:nvPicPr>
        <p:blipFill>
          <a:blip r:embed="rId1"/>
          <a:stretch/>
        </p:blipFill>
        <p:spPr>
          <a:xfrm>
            <a:off x="1295280" y="396252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was the figh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three areas of fighting were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between __________ and 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the valley of Ohio, Cumberland, and Tennessee 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in the __________________ vall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8" descr="Antietam"/>
          <p:cNvPicPr/>
          <p:nvPr/>
        </p:nvPicPr>
        <p:blipFill>
          <a:blip r:embed="rId1"/>
          <a:stretch/>
        </p:blipFill>
        <p:spPr>
          <a:xfrm>
            <a:off x="380880" y="149400"/>
            <a:ext cx="82296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Irvin McDowell (N) (with 30,000 men) went to seize ________ hoping to end the war quickly.  But they weren’t well trained and ready to fight.  (not that the Southerners were eith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infield Scott (N) (______________) _________protested and wanted a blockade.  (_________) knowing it would be a long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Lincoln gave McDowell the go ahead and his men moved “_______________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Dowell’s grand army met General Joseph E. Johnston’s army (22,000) on July 21, 1861 at _____________ (near the little town of _________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 confederate troops arrived with a “__________” and made them retr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utcomes of 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 by the _____ actually hurt the South and allowed ______________.  The North got the message that this was going to be a ______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homas “_________” Jackson (S) wanted to charge ____.  But did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and in the East was turned over to red-haired General ________________ (N) (not even 35 years ol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of Bull Run (1 and 2) Vide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player.discoveryeducation.com/index.cfm?guidAssetId=F07B4765-E9A9-4C9E-BA54-049B0CB0BEB2&amp;blnFromSearch=1&amp;productcode=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clell"/>
          <p:cNvPicPr/>
          <p:nvPr/>
        </p:nvPicPr>
        <p:blipFill>
          <a:blip r:embed="rId1"/>
          <a:stretch/>
        </p:blipFill>
        <p:spPr>
          <a:xfrm>
            <a:off x="533520" y="1676520"/>
            <a:ext cx="3076560" cy="4790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038480" y="1905120"/>
            <a:ext cx="480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 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ght in __________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isted on precision in drill and demanded ample supplies for his troops, who _________ 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stayed there training and preparing them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ntually though his indecision would be hazardo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1011240"/>
            <a:ext cx="5638680" cy="58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attle of Bull Run, he commanded the _____________ 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oversaw the growth of 22,000 military to approx. ______ under his char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was generally successful in the Peninsular campaign but failed to take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would also __________ ___________________under him and later suffer heavy casualties at Antietam.  Eventually relie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ExplorePAHistory-a0h4a4-a_349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Trent Affai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29000" y="1447920"/>
            <a:ext cx="5562720" cy="65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November 1861 a Union warship stopped the British steamer, ______, bound for Lond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__were removed from the vessel.  They were headed to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_______ were outraged at this violation of the freedom of the seas for neutral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 realized the danger of their outrage and ________ setting them free and admitting their mistak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istockphoto_3975059_the_trent_affair"/>
          <p:cNvPicPr/>
          <p:nvPr/>
        </p:nvPicPr>
        <p:blipFill>
          <a:blip r:embed="rId1"/>
          <a:stretch/>
        </p:blipFill>
        <p:spPr>
          <a:xfrm>
            <a:off x="0" y="205740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2:15:14Z</dcterms:created>
  <dc:creator>Jake Hollin</dc:creator>
  <dc:description/>
  <dc:language>en-US</dc:language>
  <cp:lastModifiedBy>jhollin</cp:lastModifiedBy>
  <dcterms:modified xsi:type="dcterms:W3CDTF">2009-09-08T14:51:57Z</dcterms:modified>
  <cp:revision>14</cp:revision>
  <dc:subject/>
  <dc:title>Economics</dc:title>
</cp:coreProperties>
</file>