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83B7-CE6B-4666-8F82-BEBD12AD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6FDB-05C1-4309-BF4D-1E262606D5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9A35-7F5E-4D20-BC3C-0F93E3CE7A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CD65-0CF4-4838-9CDC-74EF71D7DC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43A6-DE49-44A7-951E-06131BDF9B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FA3-41A9-490C-A634-BA2B85E7F0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738A-8DEA-465D-96B5-6F5703AC5D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5B85-3C49-41C8-A657-6166FC02D1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2871-295F-4107-ACF9-BDA5CECA44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558-7E32-464F-8D26-3252CD9CD2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15F4-101D-4B96-BF5F-CEE7ACBAF9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484-58F7-4C24-8895-CEEF470321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73BE-2FAD-4094-9C8F-3EA13CF139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11E2-D452-4350-8A74-5CBDBD397F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0F7E-6290-42BD-AF3F-9FFF389BF2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F82F-8D80-4128-B683-BF334F6045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9F7B-AB06-43B5-BC5F-BE6150160C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7CBB-C1C4-4266-A8AB-23C6CFADC5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F0FC-1494-473B-A74D-40DA393C01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B5BF-BDDD-4FAA-92D3-600898280A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AFE2-A5B7-4853-ABF2-6F92707F92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8CA-ED7B-4F41-ADFE-2702510A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F71-8ED4-4943-9724-C7711748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300-2BBA-4C60-99C6-8191E74F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1FF-8FA5-4446-86EA-E8738323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4900-9046-4F02-B2BA-62A92D73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5EF0-0B43-400F-B8CD-8B3D8E1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7933-91F7-4370-BE40-55C3F325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F0E8-20FD-4322-87C0-D8E7F83A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A847-F355-4E9B-96BA-AA70DCA5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048F-4DB7-4EE1-8752-DD58E7DF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5F2B-15EA-40BB-99E2-395B6F8C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C6F-9D11-410E-82A7-62E5E55D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E18D-3E5B-4A45-BE29-C3108D7C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5F70-73D6-4EEA-A9AB-5F8DC4F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2D24-BAE7-4F31-8C08-DA9BBD3A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9ACD-5198-447D-9D15-5801A264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3501-07C1-4A30-8EA6-7BC65615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948-8A6C-4F5F-860F-52D758DD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96D-2077-4CBA-BE4A-C79A6468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289-E12F-48A6-8FBE-0D893F9E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3CF-D7FC-4978-A0D9-7F194E2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725-9A12-46D4-B4A2-3A0AEB84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F0A-693F-4389-8361-DEEA65B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D8F-3C4F-4B9F-92CE-3D2AD16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772-7939-4A09-A7E7-36184DAD3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FDE-43CA-4AAF-8CFC-359E0DAC6B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07B4765-E9A9-4C9E-BA54-049B0CB0BEB2&amp;blnFromSearch=1&amp;productcode=U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vil W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3, Section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neral Ulysses S. Grant (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1523880"/>
            <a:ext cx="59436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ose to prominence in ____ batt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rted out West at age 3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ius at viewing whole scene and then reacting to 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lent, grim, cool coura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d early victories in ________- Fort Henry, Fort Donelson, Nashvil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uld become _________after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GrantUS"/>
          <p:cNvPicPr/>
          <p:nvPr/>
        </p:nvPicPr>
        <p:blipFill>
          <a:blip r:embed="rId1"/>
          <a:stretch/>
        </p:blipFill>
        <p:spPr>
          <a:xfrm>
            <a:off x="5791320" y="1371600"/>
            <a:ext cx="33526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hilo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43000" y="1905120"/>
            <a:ext cx="76960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rant took an army of 40,000 to 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st in __________on first day (though Confeds. Lost their general Albert Johnso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ext day Grant __________and sent the Confeds. Off the battle fiel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jor losses on ______________with 13,000 wounded/dead from the North, 11,000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rragut Captures New Orle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4920" y="1011240"/>
            <a:ext cx="7924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, son of a Naval officer, had been commissioned a midshipman at the age of 9, fought in 1812 @ age 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regarding orders to take forts at the mouth of Mississippi, he raced by them only losing 3 of 17 ships) and _________________________, the coveted queen city of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w the South could no longer ______________ ______________ with supplies brought in from the Gulf of Mex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nitor and the Merrim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676520" y="1447920"/>
            <a:ext cx="716256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 (Southern Ironclad Ship) destroyed numerous Northern wooden ships on March 8, 1862.  Looked like the Merrimac would single handedly _____________for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xt day, March 9, the North rolled the ___________in.  It was flush with water with a revolving turret  - “__________________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 epic battle took place, eventually the ____________withdrew again to Northfolk and the Union blockade proved to strong to be broke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age of _________________had begu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eninsular Campaig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1447920"/>
            <a:ext cx="533412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cClellan tried to take Richmo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son (S) was injured and so _____________(S) took charge of the South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pushed McClellan back and on the defense.  The North was generally successful but couldn’t _____________, Lee proved worth his weight (and then some)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csl1403l"/>
          <p:cNvPicPr/>
          <p:nvPr/>
        </p:nvPicPr>
        <p:blipFill>
          <a:blip r:embed="rId1"/>
          <a:stretch/>
        </p:blipFill>
        <p:spPr>
          <a:xfrm>
            <a:off x="5562720" y="1752480"/>
            <a:ext cx="358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bert E. Lee (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57600" y="1219320"/>
            <a:ext cx="533412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 Geni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man of noble character his first loyalty was for ________(was actually asked by _________to lead the Union) but couldn’t bring himself to go against Virginia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– married Martha Washington’s great grand daught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in class, later superintendent the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bio%20pic%20of%20robert%20e%20lee"/>
          <p:cNvPicPr/>
          <p:nvPr/>
        </p:nvPicPr>
        <p:blipFill>
          <a:blip r:embed="rId1"/>
          <a:stretch/>
        </p:blipFill>
        <p:spPr>
          <a:xfrm>
            <a:off x="0" y="1523880"/>
            <a:ext cx="33368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_____________________(Manassas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14800" y="1011240"/>
            <a:ext cx="50292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 Pope (N) was now in charge after McClellan was rem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fore Pope could march on Richmond and end the war he was ___________________ ____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__________and he was replaced with McClellan (agai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orth was suddenly on the ________.  Enlistments were ______.  People weren’t buying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800px-Second_Battle_of_Bull_Run"/>
          <p:cNvPicPr/>
          <p:nvPr/>
        </p:nvPicPr>
        <p:blipFill>
          <a:blip r:embed="rId1"/>
          <a:stretch/>
        </p:blipFill>
        <p:spPr>
          <a:xfrm>
            <a:off x="0" y="1447920"/>
            <a:ext cx="39387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19320"/>
            <a:ext cx="5257800" cy="69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ull Run, Lee quickly brought his army of 55,000 battle hardened men across the Potomac in ______on Sept. 4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nging “___________________” they thought MD-ers would join them.  But they didn’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n a copy of _____________ ____________________ fell into McClellan’s hands.  McClellan moved typically slow and lost a chance to really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antietam_072"/>
          <p:cNvPicPr/>
          <p:nvPr/>
        </p:nvPicPr>
        <p:blipFill>
          <a:blip r:embed="rId1"/>
          <a:stretch/>
        </p:blipFill>
        <p:spPr>
          <a:xfrm>
            <a:off x="5533920" y="1371600"/>
            <a:ext cx="3610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76720" y="1066680"/>
            <a:ext cx="5715000" cy="67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lly the two armies met.  September 17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 was the _________________ _______________________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was __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faced heavy casualties all day and night but still attacked the next morning.  Again McClellan hesitated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fficially it was a _______, but Lee’s __________ of the North had reached it’s highpoint.  This was the __________of the Confederac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antietam_church_dead500-762342"/>
          <p:cNvPicPr/>
          <p:nvPr/>
        </p:nvPicPr>
        <p:blipFill>
          <a:blip r:embed="rId1"/>
          <a:stretch/>
        </p:blipFill>
        <p:spPr>
          <a:xfrm>
            <a:off x="228600" y="1523880"/>
            <a:ext cx="281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8600" y="1447920"/>
            <a:ext cx="89154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th left 2700 dead on the battlefiel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lost 210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army had more than 9000 wounded.  ____________ ___________________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Antietam%20Wounded,%201862-500"/>
          <p:cNvPicPr/>
          <p:nvPr/>
        </p:nvPicPr>
        <p:blipFill>
          <a:blip r:embed="rId1"/>
          <a:stretch/>
        </p:blipFill>
        <p:spPr>
          <a:xfrm>
            <a:off x="1295280" y="396252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was the figh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three areas of fighting were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between __________ and 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the valley of Ohio, Cumberland, and Tennessee 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in the __________________ vall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8" descr="Antietam"/>
          <p:cNvPicPr/>
          <p:nvPr/>
        </p:nvPicPr>
        <p:blipFill>
          <a:blip r:embed="rId1"/>
          <a:stretch/>
        </p:blipFill>
        <p:spPr>
          <a:xfrm>
            <a:off x="380880" y="149400"/>
            <a:ext cx="82296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Irvin McDowell (N) (with 30,000 men) went to seize ________ hoping to end the war quickly.  But they weren’t well trained and ready to fight.  (not that the Southerners were eith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infield Scott (N) (______________) _________protested and wanted a blockade.  (_________) knowing it would be a long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Lincoln gave McDowell the go ahead and his men moved “_______________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Dowell’s grand army met General Joseph E. Johnston’s army (22,000) on July 21, 1861 at _____________ (near the little town of _________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 confederate troops arrived with a “__________” and made them retr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utcomes of 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 by the _____ actually hurt the South and allowed ______________.  The North got the message that this was going to be a ______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homas “_________” Jackson (S) wanted to charge ____.  But did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and in the East was turned over to red-haired General ________________ (N) (not even 35 years ol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of Bull Run (1 and 2) Vide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player.discoveryeducation.com/index.cfm?guidAssetId=F07B4765-E9A9-4C9E-BA54-049B0CB0BEB2&amp;blnFromSearch=1&amp;productcode=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clell"/>
          <p:cNvPicPr/>
          <p:nvPr/>
        </p:nvPicPr>
        <p:blipFill>
          <a:blip r:embed="rId1"/>
          <a:stretch/>
        </p:blipFill>
        <p:spPr>
          <a:xfrm>
            <a:off x="533520" y="1676520"/>
            <a:ext cx="3076560" cy="4790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038480" y="1905120"/>
            <a:ext cx="480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 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ght in __________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isted on precision in drill and demanded ample supplies for his troops, who _________ 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stayed there training and preparing the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ntually though his indecision would be hazardo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1011240"/>
            <a:ext cx="5638680" cy="58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attle of Bull Run, he commanded the _____________ 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oversaw the growth of 22,000 military to approx. ______ under his char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was generally successful in the Peninsular campaign but failed to take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would also __________ ___________________under him and later suffer heavy casualties at Antietam.  Eventually relie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ExplorePAHistory-a0h4a4-a_349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Trent Affai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29000" y="1447920"/>
            <a:ext cx="5562720" cy="65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November 1861 a Union warship stopped the British steamer, ______, bound for Lond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__were removed from the vessel.  They were headed to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_______ were outraged at this violation of the freedom of the seas for neutral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 realized the danger of their outrage and ________ setting them free and admitting their mistak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istockphoto_3975059_the_trent_affair"/>
          <p:cNvPicPr/>
          <p:nvPr/>
        </p:nvPicPr>
        <p:blipFill>
          <a:blip r:embed="rId1"/>
          <a:stretch/>
        </p:blipFill>
        <p:spPr>
          <a:xfrm>
            <a:off x="0" y="205740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2:15:14Z</dcterms:created>
  <dc:creator>Jake Hollin</dc:creator>
  <dc:description/>
  <dc:language>en-US</dc:language>
  <cp:lastModifiedBy>jhollin</cp:lastModifiedBy>
  <dcterms:modified xsi:type="dcterms:W3CDTF">2009-09-08T14:51:57Z</dcterms:modified>
  <cp:revision>14</cp:revision>
  <dc:subject/>
  <dc:title>Economics</dc:title>
</cp:coreProperties>
</file>