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356D-38B1-4E87-899F-0F21E7F06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C9E5-FA91-481E-93DE-FFE4CE23CDC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C0B5-619D-482C-BAA3-23EC20E794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8615-C8B8-408E-8103-04D5B8D000F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BF93-57B4-4044-82D1-5972971523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C7969-0544-4B11-8618-3A47E6E2A52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CE0C-95DF-4F23-8502-B87FD14D4C4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57EA-F85C-4878-9392-80C22468F5B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7E24-EF2B-422D-AB46-C460B15139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4DB9-E3A3-40E5-B6B8-9376B2AD4FE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9289-27E4-4C94-BB18-636C2E251C2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D37C-6FAC-4578-97A8-DA29B8DC041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9DC9-38E3-4C4E-B676-5586CC9BC1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C799-520F-45AF-8BE9-DD135041DA0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5DF9-7623-46B7-90D9-CEB30797C9C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423C-1529-4225-A0C8-3192425B860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002B-A278-43B2-9A16-CB1EE8FB28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CBAD-89CB-44CB-85F0-122876993FA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9419-C3F1-4F8B-B394-D571AC9FEAF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7D65-310B-4CBE-A4D1-DE214C4CB44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D926-D55B-49B3-BA2C-36A0449CE47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E533-2147-4CB9-A95E-757B3986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EBC-1AD5-4D44-A5CB-0323AA8B6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E9FA-04AF-4C7A-8385-D15537A8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8133-62E1-4E13-8B9A-4547EDF2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EC39-3D18-4693-A3BD-3CCD470C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CAD9-B953-4CDF-97D9-E6142DB2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B7C2-AC2A-464A-8248-B50CBAD0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80D2-95CA-46D2-80A5-BE38E71C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21B4-21F3-427D-A885-0C2C04689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F37C-0213-4CB0-B907-FF966364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3247-F6A3-4491-8935-BD6545F7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8CC6-BB4E-489C-A1AB-BE524398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6533-421E-415F-84E6-8EB4690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2A64B-2BC5-4497-AD83-4A684562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02EC-685B-4C01-A558-2E03F111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3D524-74D8-4014-99E3-0330877EC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C991-4AC4-41BE-B42B-D4551908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2D5-C5AE-4EEF-AAAE-C14A421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7CEC-5A94-473C-907B-CE6F9A0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138E-9919-43B8-A0B0-B8C8383EE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CC21-B11B-40CA-B01F-BA21EB37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AB41-772C-4A3E-8FFE-F22CB06A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9BB-DD4A-4DC3-8FF9-99F47162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ADD3-0537-4DCA-874F-3625226C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4F42-1E61-4787-9336-8C7DD43401D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5904-C8E8-4105-861A-ABC39C49D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layer.discoveryeducation.com/index.cfm?guidAssetId=F07B4765-E9A9-4C9E-BA54-049B0CB0BEB2&amp;blnFromSearch=1&amp;productcode=U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ivil War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3, Section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neral Ulysses S. Grant (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0" y="1523880"/>
            <a:ext cx="5943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ose to prominence in ____ battl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tarted out West at age 39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enius at viewing whole scene and then reacting to i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lent, grim, cool coura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ad early victories in ________- Fort Henry, Fort Donelson, Nashvill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uld become _________after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7" descr="GrantUS"/>
          <p:cNvPicPr/>
          <p:nvPr/>
        </p:nvPicPr>
        <p:blipFill>
          <a:blip r:embed="rId1"/>
          <a:stretch/>
        </p:blipFill>
        <p:spPr>
          <a:xfrm>
            <a:off x="5791320" y="1371600"/>
            <a:ext cx="335268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hiloh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143000" y="1905120"/>
            <a:ext cx="7696080" cy="34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Grant took an army of 40,000 to 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ost in __________on first day (though Confeds. Lost their general Albert Johnso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ext day Grant __________and sent the Confeds. Off the battle fiel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jor losses on ______________with 13,000 wounded/dead from the North, 11,000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arragut Captures New Orlean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04920" y="1011240"/>
            <a:ext cx="792468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, son of a Naval officer, had been commissioned a midshipman at the age of 9, fought in 1812 @ age 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Disregarding orders to take forts at the mouth of Mississippi, he raced by them only losing 3 of 17 ships) and _________________________, the coveted queen city of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w the South could no longer ______________ ______________ with supplies brought in from the Gulf of Mexic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Monitor and the Merrimac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676520" y="1447920"/>
            <a:ext cx="7162560" cy="546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 (Southern Ironclad Ship) destroyed numerous Northern wooden ships on March 8, 1862.  Looked like the Merrimac would single handedly _____________for the South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ext day, March 9, the North rolled the ___________in.  It was flush with water with a revolving turret  - “__________________”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n epic battle took place, eventually the ____________withdrew again to Northfolk and the Union blockade proved to strong to be broke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age of _________________had begun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Peninsular Campaig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28600" y="1447920"/>
            <a:ext cx="5334120" cy="57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cClellan tried to take Richmon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son (S) was injured and so _____________(S) took charge of the South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pushed McClellan back and on the defense.  The North was generally successful but couldn’t _____________, Lee proved worth his weight (and then some)!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Picture 7" descr="csl1403l"/>
          <p:cNvPicPr/>
          <p:nvPr/>
        </p:nvPicPr>
        <p:blipFill>
          <a:blip r:embed="rId1"/>
          <a:stretch/>
        </p:blipFill>
        <p:spPr>
          <a:xfrm>
            <a:off x="5562720" y="1752480"/>
            <a:ext cx="35812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Robert E. Lee (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657600" y="1219320"/>
            <a:ext cx="5334120" cy="57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 Geni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 man of noble character his first loyalty was for ________(was actually asked by _________to lead the Union) but couldn’t bring himself to go against Virginia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– married Martha Washington’s great grand daughte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2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in class, later superintendent the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7" descr="bio%20pic%20of%20robert%20e%20lee"/>
          <p:cNvPicPr/>
          <p:nvPr/>
        </p:nvPicPr>
        <p:blipFill>
          <a:blip r:embed="rId1"/>
          <a:stretch/>
        </p:blipFill>
        <p:spPr>
          <a:xfrm>
            <a:off x="0" y="1523880"/>
            <a:ext cx="333684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_____________________(Manassas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114800" y="1011240"/>
            <a:ext cx="5029200" cy="62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John Pope (N) was now in charge after McClellan was remo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Before Pope could march on Richmond and end the war he was ___________________ ____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y __________and he was replaced with McClellan (again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North was suddenly on the ________.  Enlistments were ______.  People weren’t buying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7" descr="800px-Second_Battle_of_Bull_Run"/>
          <p:cNvPicPr/>
          <p:nvPr/>
        </p:nvPicPr>
        <p:blipFill>
          <a:blip r:embed="rId1"/>
          <a:stretch/>
        </p:blipFill>
        <p:spPr>
          <a:xfrm>
            <a:off x="0" y="1447920"/>
            <a:ext cx="393876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28600" y="1219320"/>
            <a:ext cx="5257800" cy="69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ull Run, Lee quickly brought his army of 55,000 battle hardened men across the Potomac in ______on Sept. 4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inging “___________________” they thought MD-ers would join them.  But they didn’t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n a copy of _____________ ____________________ fell into McClellan’s hands.  McClellan moved typically slow and lost a chance to really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9" descr="antietam_072"/>
          <p:cNvPicPr/>
          <p:nvPr/>
        </p:nvPicPr>
        <p:blipFill>
          <a:blip r:embed="rId1"/>
          <a:stretch/>
        </p:blipFill>
        <p:spPr>
          <a:xfrm>
            <a:off x="5533920" y="1371600"/>
            <a:ext cx="36100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276720" y="1066680"/>
            <a:ext cx="5715000" cy="67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inally the two armies met.  September 17, 1862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t was the _________________ _______________________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was __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e faced heavy casualties all day and night but still attacked the next morning.  Again McClellan hesitated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Officially it was a _______, but Lee’s __________ of the North had reached it’s highpoint.  This was the __________of the Confederacy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7" descr="antietam_church_dead500-762342"/>
          <p:cNvPicPr/>
          <p:nvPr/>
        </p:nvPicPr>
        <p:blipFill>
          <a:blip r:embed="rId1"/>
          <a:stretch/>
        </p:blipFill>
        <p:spPr>
          <a:xfrm>
            <a:off x="228600" y="1523880"/>
            <a:ext cx="28195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ntietam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28600" y="1447920"/>
            <a:ext cx="89154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outh left 2700 dead on the battlefiel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lost 2100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ach army had more than 9000 wounded.  ____________ ___________________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Antietam%20Wounded,%201862-500"/>
          <p:cNvPicPr/>
          <p:nvPr/>
        </p:nvPicPr>
        <p:blipFill>
          <a:blip r:embed="rId1"/>
          <a:stretch/>
        </p:blipFill>
        <p:spPr>
          <a:xfrm>
            <a:off x="1295280" y="3962520"/>
            <a:ext cx="59436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ere was the fight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ain three areas of fighting were 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) between __________ and 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) the valley of Ohio, Cumberland, and Tennessee ____________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) in the __________________ valle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8" descr="Antietam"/>
          <p:cNvPicPr/>
          <p:nvPr/>
        </p:nvPicPr>
        <p:blipFill>
          <a:blip r:embed="rId1"/>
          <a:stretch/>
        </p:blipFill>
        <p:spPr>
          <a:xfrm>
            <a:off x="380880" y="149400"/>
            <a:ext cx="8229600" cy="64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Irvin McDowell (N) (with 30,000 men) went to seize ________ hoping to end the war quickly.  But they weren’t well trained and ready to fight.  (not that the Southerners were either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Winfield Scott (N) (______________) _________protested and wanted a blockade.  (_________) knowing it would be a long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First Battle of Bull Run (Manassas) continued…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t Lincoln gave McDowell the go ahead and his men moved “_______________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cDowell’s grand army met General Joseph E. Johnston’s army (22,000) on July 21, 1861 at _____________ (near the little town of _________)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 confederate troops arrived with a “__________” and made them retr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Outcomes of First Battle of Bull Run (Manassas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in by the _____ actually hurt the South and allowed ______________.  The North got the message that this was going to be a ______ w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ral Thomas “_________” Jackson (S) wanted to charge ____.  But did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mand in the East was turned over to red-haired General ________________ (N) (not even 35 years old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attle of Bull Run (1 and 2) Vide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player.discoveryeducation.com/index.cfm?guidAssetId=F07B4765-E9A9-4C9E-BA54-049B0CB0BEB2&amp;blnFromSearch=1&amp;productcode=U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Picture 5" descr="mclell"/>
          <p:cNvPicPr/>
          <p:nvPr/>
        </p:nvPicPr>
        <p:blipFill>
          <a:blip r:embed="rId1"/>
          <a:stretch/>
        </p:blipFill>
        <p:spPr>
          <a:xfrm>
            <a:off x="533520" y="1676520"/>
            <a:ext cx="3076560" cy="47908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4038480" y="1905120"/>
            <a:ext cx="480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 Gra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ought in __________ War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ssisted on precision in drill and demanded ample supplies for his troops, who _________ _______________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stayed there training and preparing them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Eventually though his indecision would be hazardou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eorge McClellan continued…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457200" y="23623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1011240"/>
            <a:ext cx="5638680" cy="58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fter Battle of Bull Run, he commanded the _____________ ________________.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oversaw the growth of 22,000 military to approx. ______ under his charg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He was generally successful in the Peninsular campaign but failed to take _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Union would also __________ ___________________under him and later suffer heavy casualties at Antietam.  Eventually reliev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ExplorePAHistory-a0h4a4-a_349"/>
          <p:cNvPicPr/>
          <p:nvPr/>
        </p:nvPicPr>
        <p:blipFill>
          <a:blip r:embed="rId1"/>
          <a:stretch/>
        </p:blipFill>
        <p:spPr>
          <a:xfrm>
            <a:off x="6019920" y="1523880"/>
            <a:ext cx="31240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Trent Affai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429000" y="1447920"/>
            <a:ext cx="5562720" cy="65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November 1861 a Union warship stopped the British steamer, ______, bound for London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_______________were removed from the vessel.  They were headed to___________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_______ were outraged at this violation of the freedom of the seas for neutral vesse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______ realized the danger of their outrage and ________ setting them free and admitting their mistak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624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6" descr="istockphoto_3975059_the_trent_affair"/>
          <p:cNvPicPr/>
          <p:nvPr/>
        </p:nvPicPr>
        <p:blipFill>
          <a:blip r:embed="rId1"/>
          <a:stretch/>
        </p:blipFill>
        <p:spPr>
          <a:xfrm>
            <a:off x="0" y="2057400"/>
            <a:ext cx="28954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15:14Z</dcterms:created>
  <dc:creator>Jake Hollin</dc:creator>
  <dc:description/>
  <dc:language>en-US</dc:language>
  <cp:lastModifiedBy>jhollin</cp:lastModifiedBy>
  <dcterms:modified xsi:type="dcterms:W3CDTF">2009-09-08T14:51:57Z</dcterms:modified>
  <cp:revision>14</cp:revision>
  <dc:subject/>
  <dc:title>Economics</dc:title>
</cp:coreProperties>
</file>