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CC65-C087-4BFB-9BC2-83F3D1778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4887-6874-4E1F-BE4A-79085D3BF4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9996-D380-4408-9515-0887AD97DF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1A82-35E3-4CB0-BA5D-12B5CA82FA3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3E38-0B1A-4778-BFC5-52B557B904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BC6F-66EE-4BBD-A9DA-58345DFF872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44CB-D621-44EE-AFEC-C347012F47D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D707-8A8B-41B9-A764-E58300B69D7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93CD-A9C5-49B9-83E9-D96454DB76E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23EA-8A52-41DF-8F97-E4A0DB2ADE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FC61-ABC1-4A66-89F4-699BC3E4251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0E50-E52C-490F-83A3-19C7953C44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0873-D91B-40E1-82FA-7315128265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A145-44E8-4622-991B-4860798D5D5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A7EB-5AEA-4BCF-AE37-D77869F2ECB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C17F-9110-42F7-9C4F-E5FC8E77B1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C328-8C24-411E-9571-E67B737195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8D57-A040-4117-89DD-B1093C4A57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6C27-1D53-437E-A093-3267FB1525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53A5-7967-42F5-8644-D903CDD5E20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0E1B-2D7D-4C92-A563-C9852CF5770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CB2-D62E-44E6-B402-E2E6C458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40D-16C9-4460-B50B-7E97ED13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51F9-AC05-4134-A244-08870F6B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F59-D02E-42E2-8EB2-5D853B04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7674-444C-4D48-9C4A-09117A51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EC63-73E2-47FB-9E43-5C5AFF19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BF65-8165-46F6-8810-666918A4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2054-440F-43A8-B247-CA68676F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1F6E-03BD-4AE0-89B4-C2129D87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D874-2C10-4B99-BB8C-95837960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B8F1-00C0-4398-9F33-B0CA29DF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5EAA-8F37-4226-89A9-510045E0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9FFA-6EE5-4137-9D4D-7FFEF796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A723-FCBA-47BB-BD17-165208F3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17DE-A5EF-4002-ADC0-644C6E55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080D-3613-4D33-9772-077791AE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5D02-9384-4D2C-820F-A7A18EBA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0826-081C-44D4-AC3A-6D9C9DD9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077A-CB58-4722-B2BE-0F7A320A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0B4-57CD-4AA4-A329-4582D2D0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E7BC-0C81-462D-B03C-F07EEADC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092-5873-49F0-8DEA-3E948F63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A2F-E048-4AED-8DE4-8743D6CC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92D-29AD-4E27-AC76-1EBD15EE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C521-6A73-49A2-BAFB-EE1BF68191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E462-9DB8-492C-BC24-719BDC0537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layer.discoveryeducation.com/index.cfm?guidAssetId=F07B4765-E9A9-4C9E-BA54-049B0CB0BEB2&amp;blnFromSearch=1&amp;productcode=U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ivil Wa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3, Section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neral Ulysses S. Grant (N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1523880"/>
            <a:ext cx="5943600" cy="55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ose to prominence in ____ batt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arted out West at age 39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Gra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enius at viewing whole scene and then reacting to i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lent, grim, cool courag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ad early victories in ________- Fort Henry, Fort Donelson, Nashvill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ould become _________after Wa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GrantUS"/>
          <p:cNvPicPr/>
          <p:nvPr/>
        </p:nvPicPr>
        <p:blipFill>
          <a:blip r:embed="rId1"/>
          <a:stretch/>
        </p:blipFill>
        <p:spPr>
          <a:xfrm>
            <a:off x="5791320" y="1371600"/>
            <a:ext cx="33526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hilo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143000" y="1905120"/>
            <a:ext cx="769608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rant took an army of 40,000 to ____________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st in __________on first day (though Confeds. Lost their general Albert Johnso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next day Grant __________and sent the Confeds. Off the battle fiel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jor losses on ______________with 13,000 wounded/dead from the North, 11,000 South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arragut Captures New Orlea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04920" y="1011240"/>
            <a:ext cx="792468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___, son of a Naval officer, had been commissioned a midshipman at the age of 9, fought in 1812 @ age 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sregarding orders to take forts at the mouth of Mississippi, he raced by them only losing 3 of 17 ships) and _________________________, the coveted queen city of the South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ow the South could no longer ______________ ______________ with supplies brought in from the Gulf of Mexic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Monitor and the Merrimac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676520" y="1447920"/>
            <a:ext cx="716256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 (Southern Ironclad Ship) destroyed numerous Northern wooden ships on March 8, 1862.  Looked like the Merrimac would single handedly _____________for the South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ext day, March 9, the North rolled the ___________in.  It was flush with water with a revolving turret  - “__________________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 epic battle took place, eventually the ____________withdrew again to Northfolk and the Union blockade proved to strong to be broken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age of _________________had begun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Peninsular Campaig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1447920"/>
            <a:ext cx="5334120" cy="57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cClellan tried to take Richmon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ohnson (S) was injured and so _____________(S) took charge of the South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e pushed McClellan back and on the defense.  The North was generally successful but couldn’t _____________, Lee proved worth his weight (and then some)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7" descr="csl1403l"/>
          <p:cNvPicPr/>
          <p:nvPr/>
        </p:nvPicPr>
        <p:blipFill>
          <a:blip r:embed="rId1"/>
          <a:stretch/>
        </p:blipFill>
        <p:spPr>
          <a:xfrm>
            <a:off x="5562720" y="1752480"/>
            <a:ext cx="3581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obert E. Lee (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657600" y="1219320"/>
            <a:ext cx="5334120" cy="57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 Geniu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 man of noble character his first loyalty was for ________(was actually asked by _________to lead the Union) but couldn’t bring himself to go against Virginia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– married Martha Washington’s great grand daughte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_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in class, later superintendent the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bio%20pic%20of%20robert%20e%20lee"/>
          <p:cNvPicPr/>
          <p:nvPr/>
        </p:nvPicPr>
        <p:blipFill>
          <a:blip r:embed="rId1"/>
          <a:stretch/>
        </p:blipFill>
        <p:spPr>
          <a:xfrm>
            <a:off x="0" y="1523880"/>
            <a:ext cx="33368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_____________________(Manassas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114800" y="1011240"/>
            <a:ext cx="5029200" cy="62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ohn Pope (N) was now in charge after McClellan was remov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efore Pope could march on Richmond and end the war he was ___________________ ____________________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y __________and he was replaced with McClellan (agai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North was suddenly on the ________.  Enlistments were ______.  People weren’t buying 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7" descr="800px-Second_Battle_of_Bull_Run"/>
          <p:cNvPicPr/>
          <p:nvPr/>
        </p:nvPicPr>
        <p:blipFill>
          <a:blip r:embed="rId1"/>
          <a:stretch/>
        </p:blipFill>
        <p:spPr>
          <a:xfrm>
            <a:off x="0" y="1447920"/>
            <a:ext cx="39387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tietam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8600" y="1219320"/>
            <a:ext cx="5257800" cy="69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fter Bull Run, Lee quickly brought his army of 55,000 battle hardened men across the Potomac in ______on Sept. 4, 1862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nging “___________________” they thought MD-ers would join them.  But they didn’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n a copy of _____________ ____________________ fell into McClellan’s hands.  McClellan moved typically slow and lost a chance to really 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9" descr="antietam_072"/>
          <p:cNvPicPr/>
          <p:nvPr/>
        </p:nvPicPr>
        <p:blipFill>
          <a:blip r:embed="rId1"/>
          <a:stretch/>
        </p:blipFill>
        <p:spPr>
          <a:xfrm>
            <a:off x="5533920" y="1371600"/>
            <a:ext cx="36100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tietam continued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276720" y="1066680"/>
            <a:ext cx="5715000" cy="67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nally the two armies met.  September 17, 1862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t was the _________________ _______________________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e was __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e faced heavy casualties all day and night but still attacked the next morning.  Again McClellan hesitated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fficially it was a _______, but Lee’s __________ of the North had reached it’s highpoint.  This was the __________of the Confederacy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7" descr="antietam_church_dead500-762342"/>
          <p:cNvPicPr/>
          <p:nvPr/>
        </p:nvPicPr>
        <p:blipFill>
          <a:blip r:embed="rId1"/>
          <a:stretch/>
        </p:blipFill>
        <p:spPr>
          <a:xfrm>
            <a:off x="228600" y="1523880"/>
            <a:ext cx="2819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tietam continued…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28600" y="1447920"/>
            <a:ext cx="89154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outh left 2700 dead on the battlefiel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Union lost 2100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ach army had more than 9000 wounded.  ____________ __________________________________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7" descr="Antietam%20Wounded,%201862-500"/>
          <p:cNvPicPr/>
          <p:nvPr/>
        </p:nvPicPr>
        <p:blipFill>
          <a:blip r:embed="rId1"/>
          <a:stretch/>
        </p:blipFill>
        <p:spPr>
          <a:xfrm>
            <a:off x="1295280" y="3962520"/>
            <a:ext cx="5943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was the figh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in three areas of fighting were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between __________ and 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the valley of Ohio, Cumberland, and Tennessee ______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in the __________________ valle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8" descr="Antietam"/>
          <p:cNvPicPr/>
          <p:nvPr/>
        </p:nvPicPr>
        <p:blipFill>
          <a:blip r:embed="rId1"/>
          <a:stretch/>
        </p:blipFill>
        <p:spPr>
          <a:xfrm>
            <a:off x="380880" y="149400"/>
            <a:ext cx="82296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rst Battle of Bull Run (Manassa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Irvin McDowell (N) (with 30,000 men) went to seize ________ hoping to end the war quickly.  But they weren’t well trained and ready to fight.  (not that the Southerners were eithe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Winfield Scott (N) (______________) _________protested and wanted a blockade.  (_________) knowing it would be a long w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rst Battle of Bull Run (Manassas) continued…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Lincoln gave McDowell the go ahead and his men moved “_______________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Dowell’s grand army met General Joseph E. Johnston’s army (22,000) on July 21, 1861 at _____________ (near the little town of _________)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sh confederate troops arrived with a “__________” and made them retre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utcomes of First Battle of Bull Run (Manassa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in by the _____ actually hurt the South and allowed ______________.  The North got the message that this was going to be a ______ w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Thomas “_________” Jackson (S) wanted to charge ____.  But didn’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and in the East was turned over to red-haired General ________________ (N) (not even 35 years old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of Bull Run (1 and 2) Vide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player.discoveryeducation.com/index.cfm?guidAssetId=F07B4765-E9A9-4C9E-BA54-049B0CB0BEB2&amp;blnFromSearch=1&amp;productcode=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orge McClell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5" descr="mclell"/>
          <p:cNvPicPr/>
          <p:nvPr/>
        </p:nvPicPr>
        <p:blipFill>
          <a:blip r:embed="rId1"/>
          <a:stretch/>
        </p:blipFill>
        <p:spPr>
          <a:xfrm>
            <a:off x="533520" y="1676520"/>
            <a:ext cx="3076560" cy="4790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4038480" y="1905120"/>
            <a:ext cx="4800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 Gra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ught in __________ Wa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sisted on precision in drill and demanded ample supplies for his troops, who _________ _______________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 stayed there training and preparing them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entually though his indecision would be hazardou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orge McClellan continued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04920" y="1011240"/>
            <a:ext cx="5638680" cy="58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fter Battle of Bull Run, he commanded the _____________ ________________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 oversaw the growth of 22,000 military to approx. ______ under his charg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 was generally successful in the Peninsular campaign but failed to take 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Union would also __________ ___________________under him and later suffer heavy casualties at Antietam.  Eventually reliev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ExplorePAHistory-a0h4a4-a_349"/>
          <p:cNvPicPr/>
          <p:nvPr/>
        </p:nvPicPr>
        <p:blipFill>
          <a:blip r:embed="rId1"/>
          <a:stretch/>
        </p:blipFill>
        <p:spPr>
          <a:xfrm>
            <a:off x="6019920" y="1523880"/>
            <a:ext cx="31240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Trent Affai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429000" y="1447920"/>
            <a:ext cx="5562720" cy="65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November 1861 a Union warship stopped the British steamer, ______, bound for Londo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_____were removed from the vessel.  They were headed to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_______ were outraged at this violation of the freedom of the seas for neutral vesse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 realized the danger of their outrage and ________ setting them free and admitting their mistak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istockphoto_3975059_the_trent_affair"/>
          <p:cNvPicPr/>
          <p:nvPr/>
        </p:nvPicPr>
        <p:blipFill>
          <a:blip r:embed="rId1"/>
          <a:stretch/>
        </p:blipFill>
        <p:spPr>
          <a:xfrm>
            <a:off x="0" y="205740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2:15:14Z</dcterms:created>
  <dc:creator>Jake Hollin</dc:creator>
  <dc:description/>
  <dc:language>en-US</dc:language>
  <cp:lastModifiedBy>jhollin</cp:lastModifiedBy>
  <dcterms:modified xsi:type="dcterms:W3CDTF">2009-09-08T14:51:57Z</dcterms:modified>
  <cp:revision>14</cp:revision>
  <dc:subject/>
  <dc:title>Economics</dc:title>
</cp:coreProperties>
</file>